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6E2C-C252-4108-A7B3-7BCA09738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41F8A-3091-40FE-99FE-C68C8CA39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59B70-6606-4D5C-9A5D-5504B7A64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702E3-8311-4D13-865A-BDC3B8151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13D8-A4D6-41FB-806C-A14F09D70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A7FC4-21D5-46C4-96CB-F3737EECA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0DBBB-01A5-45C3-8263-1F52E8E4C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84682-3D87-4216-83A2-CA8D40DD9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4968E-A287-4D32-AEF7-05C199101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BBAC6-EC3F-482B-BFF4-1155A2D32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E5D13-0F2E-4DEE-AD99-E0110DECE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45FE9-BFE2-434D-A384-31BA1A333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AF74-094C-4E55-8D59-6A2B143B9C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1439640" cy="1440000"/>
          </a:xfrm>
          <a:prstGeom prst="rect">
            <a:avLst/>
          </a:prstGeom>
          <a:ln w="9360">
            <a:solidFill>
              <a:srgbClr val="969696"/>
            </a:solidFill>
            <a:miter/>
          </a:ln>
        </p:spPr>
      </p:pic>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3a3</cp:lastModifiedBy>
  <dcterms:modified xsi:type="dcterms:W3CDTF">2012-06-19T11:00:04Z</dcterms:modified>
  <cp:revision>43</cp:revision>
  <dc:subject/>
  <dc:title>SALARIUL</dc:title>
</cp:coreProperties>
</file>